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E2B-7D1B-4143-82E7-00F06824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701-E33E-45EB-8444-25F9B8DB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94E-AB19-4B76-B8E3-5277F032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36E-5579-4562-AD4F-ED6D1BE4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F62-21C0-4359-8192-7EC2249F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E0B-42FA-40A8-8E65-48E61585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7F5-347F-47E8-82E7-5C99C22F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CB2-A9E7-4438-BA2B-6FE000CF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92F-0B6A-47BC-B049-354E729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3BB-CEAE-409C-91BD-0D99CF5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B82-7D6D-4B72-9F49-0C6A3513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480-F11E-4A82-B8C0-68370FB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6E85-B708-441E-8059-08F69C062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s &amp;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ies &amp;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in eukaryotes &amp; prokaryotes but not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location, enzymes, speed, promoter sequence, termination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838080"/>
          <a:ext cx="7696080" cy="5276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throughout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in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type of RNA polymeras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types of RNA polymerase, depends on type of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rs are less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rs are more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62120" y="838080"/>
          <a:ext cx="7696080" cy="5276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s 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s s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osttranscriptional mod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transcriptional modifications (5’ cap, polyA tail,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ro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ns &amp; exo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imilari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ibosomes can translate mRNA at the same tim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ibosome encounters STOP codon, release factor binds to A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cap involved in 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can occur at same time (and location) as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n nucleus; translation in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er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5:21:29Z</dcterms:created>
  <dc:creator>rubina khan</dc:creator>
  <dc:description/>
  <dc:language>en-US</dc:language>
  <cp:lastModifiedBy>rubina khan</cp:lastModifiedBy>
  <dcterms:modified xsi:type="dcterms:W3CDTF">2012-11-27T05:42:57Z</dcterms:modified>
  <cp:revision>23</cp:revision>
  <dc:subject/>
  <dc:title>Eukaryotes &amp; Prokaryotes</dc:title>
</cp:coreProperties>
</file>